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F675-1A38-4972-9630-10534A71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852-614D-4214-9961-4B7485B2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49F-FEFB-44A7-BB92-921DD94A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1EDB-730B-4877-BB63-92FD22A6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92A00-DE49-49C0-910E-BA10C2E4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579F5-FA2A-4CE5-B7EA-B7B14CC4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1D0BA-7A02-4FA4-8DEB-B5C0F5C9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8B76F-77D4-42B7-829E-9B1787C9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E54BA-8599-4820-B933-6E7F5B09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D9E43-5456-4718-A6E3-3ED0F40A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18B15-5756-4998-B92F-81CFD313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2A2D-EF4E-4F07-A26B-7F9B7270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6E0F9-E9D5-4156-B9FD-39028B18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8EEB5-7C47-42A3-9451-66D66634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D9ED0-FC1F-486C-A919-F3DD9E48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E2853-71C2-43B0-9C0A-A0FD2D91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4F20A-2E06-47E2-BC22-D92F9645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0BD98-D789-47B1-84EC-8F1AC36D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85946-0482-4D36-BE6A-A840552A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18219-C887-452F-876E-6245B846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3D9EE-AFDE-4806-BEDB-494980CE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28F60-032A-4159-B9A5-728AC4BB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E5BC-9B23-4C12-AC38-1BA69384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CFAAE-8676-420A-88CA-15AC4CEB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8CC9F-7398-4790-B2B7-49431470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CFC51-BA13-4665-8DE9-D1A2BD85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D5AC1-75ED-4039-B52E-C9665977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BE419-18CA-4F62-915D-88304133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B0439-ECA9-4E3E-BA0E-2DD785C0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C9D60-A6C3-41ED-80E1-A6BB937B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BC3F04-D605-4163-A1DB-F149FE87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20D41E-8B33-4C03-9B1A-1D0F85BC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3CBA6-0FAC-4D8E-B2A5-944CCA13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02F-C747-4C8B-950D-531F7156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7891B7-166A-4C61-B225-3B9C70D1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E29028-D635-4C6C-91AA-53B6B165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8D41EE-D75B-49F9-BA88-0F2D3E91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FAC817-ECEF-4BC4-AA2A-86C5A6E1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9CFA8E-7DE3-4826-B9B7-144C888C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027FB8-23EA-4EE6-803B-F79E5394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928AE7-592F-43CD-881B-D08184FE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11EE89-F33E-40D4-87DA-863475E5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5FC23D-0073-4101-80E4-DFA16906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3CE-2F1B-4CD8-846D-4A8E41A9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70C-37EE-4A1A-8EBE-546BE986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8F75-DFFE-4CFA-ABA9-9440B1CE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4DF2-F16B-42EA-B0A2-C6BFC2EB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556-89EA-43E4-9B64-609098B1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17EC-120C-4113-A896-3A569983E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FCCE-CAF9-4CA7-B38A-EEB46282A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35F6-707F-4421-AF03-10F943DBCA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F9BB-C7D5-4733-8B74-A158996CAB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s comid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85800" y="10896480"/>
          <a:ext cx="34290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0896480"/>
                    <a:ext cx="3429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648320" y="2133720"/>
            <a:ext cx="3047760" cy="27432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094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1447920"/>
            <a:ext cx="3124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1219320" y="1752480"/>
            <a:ext cx="7010280" cy="3716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80880" y="21337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56386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r michael tor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desayun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-1143000" y="9677520"/>
            <a:ext cx="5562720" cy="2209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52280" y="2743200"/>
            <a:ext cx="2438640" cy="2057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2666880" y="2666880"/>
            <a:ext cx="2590920" cy="2133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 flipH="1">
            <a:off x="5790600" y="9524880"/>
            <a:ext cx="18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rf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5029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f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5105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nque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5334120" y="2666880"/>
            <a:ext cx="1523880" cy="2057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33412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unue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6934320" y="2743200"/>
            <a:ext cx="1904760" cy="1981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16292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c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3809880" y="28576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6705720" y="5334120"/>
            <a:ext cx="2438280" cy="1523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590920" y="64008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 le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68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68" fill="hold"/>
                                        <p:tgtEl>
                                          <p:spTgt spid="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l almuerzo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-360" y="5562720"/>
            <a:ext cx="3048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as fri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1925640" cy="2857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819520" y="3124080"/>
            <a:ext cx="2133360" cy="2309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971800" y="57150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utas ensal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5181480" y="3276720"/>
            <a:ext cx="1676520" cy="2057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410080" y="5715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ros de cebo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6858000" y="3505320"/>
            <a:ext cx="2157480" cy="1619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7620120" y="55627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rro ca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6934320" y="1905120"/>
            <a:ext cx="2055600" cy="1143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800600" y="2514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ca 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La cen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2667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o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s de po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o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216160" cy="2209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248520" y="2590920"/>
            <a:ext cx="2762280" cy="1719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6400800" y="4495680"/>
            <a:ext cx="2590920" cy="2219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4648320" y="3962520"/>
            <a:ext cx="1144440" cy="251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1:51Z</dcterms:created>
  <dc:creator>tortimic</dc:creator>
  <dc:description/>
  <dc:language>en-US</dc:language>
  <cp:lastModifiedBy>tortimic</cp:lastModifiedBy>
  <dcterms:modified xsi:type="dcterms:W3CDTF">2011-04-14T15:03:25Z</dcterms:modified>
  <cp:revision>4</cp:revision>
  <dc:subject/>
  <dc:title>Las comidas</dc:title>
</cp:coreProperties>
</file>